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AA0E-C843-405C-BAF6-45916612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F618-75D1-4139-8A63-07596D12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7DD5-7E72-492E-817F-84D3E52F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710-FC49-4BD8-873E-E9CF65E1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850B-9E2E-42E4-B53E-FE30DC48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7204-C7DB-46FA-AFEF-792ABB99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36B9-72D7-408E-9C80-246872EE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E34A-6C08-4F4C-9B02-9E5CBCEA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C207-9A34-41AB-B9EB-1A03CB8A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9738-C18B-487B-AD3C-783AA3C9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C61F-5A4F-4EDF-BE27-8A9F5166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5E65-4CBF-42E9-BD49-CE929B5F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CFCE-7488-4BF6-AD19-7776ACC00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10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965960" y="3021840"/>
            <a:ext cx="520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ВАЛИДНОСТ И ЗНАЧАЈ ДОКАЗ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О НЕЖЕЉЕНИМ ДЕЈСТВИ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докази о нежељеним дејствима валид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групе болесника у студији биле у свему слич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изузев у изложености новом лек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ефекти и нежељена дејства регистровани на исти начин у обе груп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пацијенти праћени комплетно и довољно дуг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докази о нежељеним дејствима валид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резултати задовољавај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неке дијагностичке тестове за узрочнос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а ли је јасно да је излагање леку претходило појави нежељеног дејств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а ли постоји веза између дозе и ефект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Постоје ли подаци који говоре о повлачењу нежељеног ефекта после прекида примене лека или о поновној појави нежељеног ефекта после поновне примене лек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а ли је асоцијација лека и нежељеног ефекта конзистентна од студије до студиј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а ли постоји биолошко објашњење асоцијациј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резултати студије о нежељеним дејствима клинички значај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Потребно је израчунати релативно и апсолутно повећање ризика код клиничких студије или кохортних студ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Значајно релативно повећање ризика је 3 пута или ви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ејс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нтрол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удиј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еб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рачунати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ds rati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начајан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ds rati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снову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псолутног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већањ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изик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рачунати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Needed to Harm (100/APR)    *APR=апсолутно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већање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из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Како израчунати релативни ризик и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dds rati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5"/>
          <p:cNvGraphicFramePr/>
          <p:nvPr/>
        </p:nvGraphicFramePr>
        <p:xfrm>
          <a:off x="428760" y="2071800"/>
          <a:ext cx="827568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27568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4-07-12T17:29:09Z</dcterms:modified>
  <cp:revision>58</cp:revision>
  <dc:subject/>
  <dc:title>Slide 1</dc:title>
</cp:coreProperties>
</file>